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F709B-D9AD-4725-A340-0E372EEC6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9986-BA6B-470A-8F47-0295F4E67B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DEB3B-4817-4F73-B08B-17DC1F8A7F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EA631-A751-4D3A-9192-8534297960A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4DA7-FFB2-4758-8E1A-972F010296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6CA5-0D57-429D-979E-CEA794E5FA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35F0-C199-4955-9E9F-AECBD8930F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F7F93-B3D1-4933-8095-D1C57C7504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1602-B39E-4900-900E-33BA2E713C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7BC7-0768-4923-9124-4CDCA3180F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EB7D-0921-40B2-B548-932F669DFE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17C5-D596-4E6A-81F8-461FEEE979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236A-88FA-4666-984B-5C95D0C581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D1456-14C5-414E-8B35-64120DF85B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894F-121D-482A-BAC2-B3C95A5AC7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5219-8D7B-4D20-9737-0494195A44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012C-7D71-46D0-B49B-EB1751F60E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6458-5FAB-48DC-B3EC-6149606B19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D613-A04E-4232-8BDB-EB6B7C4AE9D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ACB6-5EF3-45B2-9E89-707CA8A0EC0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6A36C-2F19-4A32-855B-7D5A6D57984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ED9B2-90D5-440C-84B7-817CCB95DF8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39E2-1995-46BA-8FDC-4B2D56A4CFF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898D-55B8-4497-BE4A-B8FFF0FBB3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058E-3149-4977-A219-568829AA96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7719-BF89-4587-BDC1-FB7B3C7D0D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4E1C-D684-445E-BC88-24CF08F2DE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0336-8E23-4663-B678-C598656877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AFD4-BD6B-4569-9028-DC021BDFB4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A0F0-0C74-4652-9696-CEB6207B56B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0E21-0470-40C7-BF1C-FC43C327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E369-D3B6-4D96-A8A4-E64A2903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B30B-00C3-41C1-B27D-C33600DD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529-B9C5-474E-BBF1-8943A8F2A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E334-C955-4DBC-B866-37DA2F305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C2F0-0F44-48C9-A7BD-DA5BA426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328A-C343-485C-8815-BCB3DDF7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61C7-9AB0-42E2-B3E7-0E032BEB1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14E0-F03B-458B-871C-67B6A284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0D22-1048-4ACD-A6BF-EAD95988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7662-67C0-46E2-9654-F5DD63DC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E4D-CE43-4667-B67C-8A15AA9E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1B6B1-BBBD-4C18-B48E-BEB2A32D79A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slide" Target="slide5.xml"/><Relationship Id="rId12" Type="http://schemas.openxmlformats.org/officeDocument/2006/relationships/slide" Target="slide10.xml"/><Relationship Id="rId13" Type="http://schemas.openxmlformats.org/officeDocument/2006/relationships/slide" Target="slide15.xml"/><Relationship Id="rId14" Type="http://schemas.openxmlformats.org/officeDocument/2006/relationships/slide" Target="slide20.xml"/><Relationship Id="rId15" Type="http://schemas.openxmlformats.org/officeDocument/2006/relationships/slide" Target="slide25.xml"/><Relationship Id="rId16" Type="http://schemas.openxmlformats.org/officeDocument/2006/relationships/slide" Target="slide6.xml"/><Relationship Id="rId17" Type="http://schemas.openxmlformats.org/officeDocument/2006/relationships/slide" Target="slide11.xml"/><Relationship Id="rId18" Type="http://schemas.openxmlformats.org/officeDocument/2006/relationships/slide" Target="slide16.xml"/><Relationship Id="rId19" Type="http://schemas.openxmlformats.org/officeDocument/2006/relationships/slide" Target="slide21.xml"/><Relationship Id="rId20" Type="http://schemas.openxmlformats.org/officeDocument/2006/relationships/slide" Target="slide26.xml"/><Relationship Id="rId21" Type="http://schemas.openxmlformats.org/officeDocument/2006/relationships/slide" Target="slide7.xml"/><Relationship Id="rId22" Type="http://schemas.openxmlformats.org/officeDocument/2006/relationships/slide" Target="slide12.xml"/><Relationship Id="rId23" Type="http://schemas.openxmlformats.org/officeDocument/2006/relationships/slide" Target="slide17.xml"/><Relationship Id="rId24" Type="http://schemas.openxmlformats.org/officeDocument/2006/relationships/slide" Target="slide22.xml"/><Relationship Id="rId25" Type="http://schemas.openxmlformats.org/officeDocument/2006/relationships/slide" Target="slide27.xml"/><Relationship Id="rId26" Type="http://schemas.openxmlformats.org/officeDocument/2006/relationships/image" Target="../media/image1.gif"/><Relationship Id="rId27" Type="http://schemas.openxmlformats.org/officeDocument/2006/relationships/image" Target="../media/image2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057400" y="152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99"/>
                </a:solidFill>
                <a:latin typeface="Times New Roman"/>
              </a:rPr>
              <a:t>Zoo Jeopard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43000"/>
          <a:ext cx="8381880" cy="542592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The Berry Sist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The Polar Be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The Armadill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The Milk Snak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Other Zoo Friend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6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8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10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67" descr="C:\Users\Noel\Desktop\panda-ani.gif"/>
          <p:cNvPicPr/>
          <p:nvPr/>
        </p:nvPicPr>
        <p:blipFill>
          <a:blip r:embed="rId26"/>
          <a:stretch/>
        </p:blipFill>
        <p:spPr>
          <a:xfrm>
            <a:off x="304920" y="0"/>
            <a:ext cx="99216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Common Armadillo"/>
          <p:cNvPicPr/>
          <p:nvPr/>
        </p:nvPicPr>
        <p:blipFill>
          <a:blip r:embed="rId27"/>
          <a:stretch/>
        </p:blipFill>
        <p:spPr>
          <a:xfrm>
            <a:off x="7086600" y="304920"/>
            <a:ext cx="15238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028"/>
          <p:cNvSpPr/>
          <p:nvPr/>
        </p:nvSpPr>
        <p:spPr>
          <a:xfrm>
            <a:off x="-4320" y="380880"/>
            <a:ext cx="899856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6699"/>
                </a:solidFill>
                <a:latin typeface="Times New Roman"/>
              </a:rPr>
              <a:t>Mammal, Reptile, or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6699"/>
                </a:solidFill>
                <a:latin typeface="Times New Roman"/>
              </a:rPr>
              <a:t>Amphibia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The polar bear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belongs to this group 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of animals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1296000" y="533520"/>
            <a:ext cx="6507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aby polar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ears are born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with thi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impairment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467280" y="380880"/>
            <a:ext cx="8127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666699"/>
                </a:solidFill>
                <a:latin typeface="Times New Roman"/>
              </a:rPr>
              <a:t>10, 25, or 50 years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6699"/>
                </a:solidFill>
                <a:latin typeface="Times New Roman"/>
              </a:rPr>
              <a:t>The approximat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6699"/>
                </a:solidFill>
                <a:latin typeface="Times New Roman"/>
              </a:rPr>
              <a:t>number of years the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6699"/>
                </a:solidFill>
                <a:latin typeface="Times New Roman"/>
              </a:rPr>
              <a:t>polar bear can live in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666699"/>
                </a:solidFill>
                <a:latin typeface="Times New Roman"/>
              </a:rPr>
              <a:t>the wild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691560" y="533520"/>
            <a:ext cx="7966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only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rmadillo specie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at can roll into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 ball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625320" y="990720"/>
            <a:ext cx="7782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During summer,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rmadillos ar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considered thi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20600" y="380880"/>
            <a:ext cx="8931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666699"/>
                </a:solidFill>
                <a:latin typeface="Times New Roman"/>
              </a:rPr>
              <a:t>True or Fals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baby armadillo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is born withou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 hard outer shell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4303800" y="1116000"/>
            <a:ext cx="1839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WordArt 6"/>
          <p:cNvSpPr txBox="1"/>
          <p:nvPr/>
        </p:nvSpPr>
        <p:spPr>
          <a:xfrm>
            <a:off x="990720" y="1219320"/>
            <a:ext cx="761976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DAILY DOUB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Action Button: Custom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612360" y="762120"/>
            <a:ext cx="796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only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rmadillo specie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in the U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231120" y="1219320"/>
            <a:ext cx="86817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the “color”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at describes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shedding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612000" y="990720"/>
            <a:ext cx="8154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milk snake’s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main food at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zoo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ction Button: Custom 1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2423520" y="16365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307080" y="914400"/>
            <a:ext cx="8558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th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ime of day th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snake usually eats</a:t>
            </a:r>
            <a:r>
              <a:rPr b="0" lang="en-US" sz="8800" spc="-1" strike="noStrike">
                <a:solidFill>
                  <a:srgbClr val="666699"/>
                </a:solidFill>
                <a:latin typeface="Arial"/>
              </a:rPr>
              <a:t>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ction Button: Custom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533520" y="1066680"/>
            <a:ext cx="7848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the milk snake’s venomous twin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916920" y="990720"/>
            <a:ext cx="73479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666699"/>
                </a:solidFill>
                <a:latin typeface="Times New Roman"/>
              </a:rPr>
              <a:t>True or Fals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milk snak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is poisonou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610920" y="1447920"/>
            <a:ext cx="7940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Monarchs do thi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for the winter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460080" y="914400"/>
            <a:ext cx="796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plant that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Giant Panda eat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WordArt 6"/>
          <p:cNvSpPr txBox="1"/>
          <p:nvPr/>
        </p:nvSpPr>
        <p:spPr>
          <a:xfrm>
            <a:off x="990720" y="1219320"/>
            <a:ext cx="761976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DAILY DOUB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403920" y="609480"/>
            <a:ext cx="8280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666699"/>
                </a:solidFill>
                <a:latin typeface="Times New Roman"/>
              </a:rPr>
              <a:t>PICTURE CLU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provides the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Komodo Dragon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with camouflage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ction Button: Custom 4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764280" y="914400"/>
            <a:ext cx="7751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 solitary reptil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at lives in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hot dry area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14120" y="914400"/>
            <a:ext cx="90518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patterning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determines an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armadillo’s specie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533520" y="304920"/>
            <a:ext cx="82296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666699"/>
                </a:solidFill>
                <a:latin typeface="Times New Roman"/>
              </a:rPr>
              <a:t>PICTURE CLU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This animal can kill up to 10,000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people with it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666699"/>
                </a:solidFill>
                <a:latin typeface="Times New Roman"/>
              </a:rPr>
              <a:t>toxin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ction Button: Custo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993960" y="1066680"/>
            <a:ext cx="72230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how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old the Berry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Sisters can live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83400" y="685800"/>
            <a:ext cx="85201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se are the tree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at are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erry Sister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natural habitat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840240" y="1752480"/>
            <a:ext cx="75646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Berry Sister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specie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87600" y="533520"/>
            <a:ext cx="76896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continent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where the Berry 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Sisters are found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in the wild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534240" y="1828800"/>
            <a:ext cx="78465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height of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Berry Sisters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536400" y="1828800"/>
            <a:ext cx="7817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e polar bear’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skin is this color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993240" y="914400"/>
            <a:ext cx="71895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This is the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polar bear’s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666699"/>
                </a:solidFill>
                <a:latin typeface="Times New Roman"/>
              </a:rPr>
              <a:t>greatest enemy.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ction Button: Custom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15:39:10Z</dcterms:created>
  <dc:creator>Philip Bigler</dc:creator>
  <dc:description/>
  <dc:language>en-US</dc:language>
  <cp:lastModifiedBy>Vernice Mulcahy</cp:lastModifiedBy>
  <cp:lastPrinted>2009-12-07T16:38:54Z</cp:lastPrinted>
  <dcterms:modified xsi:type="dcterms:W3CDTF">2009-12-08T01:19:41Z</dcterms:modified>
  <cp:revision>22</cp:revision>
  <dc:subject/>
  <dc:title>Slide 1</dc:title>
</cp:coreProperties>
</file>